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3.jpeg" ContentType="image/jpeg"/>
  <Override PartName="/ppt/media/image27.wmf" ContentType="image/x-wmf"/>
  <Override PartName="/ppt/media/image4.wmf" ContentType="image/x-wmf"/>
  <Override PartName="/ppt/media/image2.wmf" ContentType="image/x-wmf"/>
  <Override PartName="/ppt/media/image25.jpeg" ContentType="image/jpeg"/>
  <Override PartName="/ppt/media/image10.wmf" ContentType="image/x-wmf"/>
  <Override PartName="/ppt/media/image5.wmf" ContentType="image/x-wmf"/>
  <Override PartName="/ppt/media/image30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media/image19.jpeg" ContentType="image/jpeg"/>
  <Override PartName="/ppt/media/image29.wmf" ContentType="image/x-wmf"/>
  <Override PartName="/ppt/media/image23.wmf" ContentType="image/x-wmf"/>
  <Override PartName="/ppt/media/image28.jpeg" ContentType="image/jpe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jpeg" ContentType="image/jpeg"/>
  <Override PartName="/ppt/media/image6.jpeg" ContentType="image/jpeg"/>
  <Override PartName="/ppt/media/image21.wmf" ContentType="image/x-wmf"/>
  <Override PartName="/ppt/media/image20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25C-618B-4C59-B7BD-2372EBF0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69DD-DBCE-4088-B59E-AC9BCE90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B3B-0466-4E67-BC66-CE9A2CFE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869-77AD-41DD-A4C1-C52759C9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D3C-5B00-4117-AA97-5A00FC2A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249C-40FB-46E7-AF2E-5051B213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A0F-7A12-4FE0-AF1E-2B7FA275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B63-BFB7-421D-B40D-70C7ECEE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1CA-3ED2-412B-9B75-4953F8B2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207-C66F-4B55-B4C2-45304C2B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DB4-41D9-486E-81AA-6280BC5F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5A4-DEEE-4332-B243-CD47ADA7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C4CA-C841-4315-8AFC-C77AAFA5F9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1d1cb"/>
                </a:solidFill>
                <a:latin typeface="Elephant"/>
              </a:rPr>
              <a:t>La comida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460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292720" cy="26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29797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71388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224760" cy="4021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0" y="4419720"/>
            <a:ext cx="17575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4259160" cy="3476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410080" y="3581280"/>
            <a:ext cx="28987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31496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00672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867120" cy="3441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86200" y="3657600"/>
            <a:ext cx="41227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3291120" cy="3290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343400" y="533520"/>
            <a:ext cx="372096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2852640" cy="3181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2444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427860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5292720" cy="2914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315432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1036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418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5348160" cy="2927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267080" y="3429000"/>
            <a:ext cx="32450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914400"/>
            <a:ext cx="361944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5052960" cy="6242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943600" y="1981080"/>
            <a:ext cx="2478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468972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223992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70080" y="228600"/>
            <a:ext cx="48038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49712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191120" y="609480"/>
            <a:ext cx="4592520" cy="3246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34210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7:00:50Z</dcterms:created>
  <dc:creator>student</dc:creator>
  <dc:description/>
  <dc:language>en-US</dc:language>
  <cp:lastModifiedBy>Karen Murano</cp:lastModifiedBy>
  <dcterms:modified xsi:type="dcterms:W3CDTF">2009-04-27T21:24:28Z</dcterms:modified>
  <cp:revision>3</cp:revision>
  <dc:subject/>
  <dc:title>La comida </dc:title>
</cp:coreProperties>
</file>